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E607B-2B47-42F7-AD6C-CA673B1706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7850B-B5D3-4008-ADA0-85A9FF5D6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70D-210E-4C2E-A6C3-C7F21B85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66E-6379-4BD0-AD0A-435FB04B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11AE-9DC5-4817-9134-08BB42D5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1B45-0739-4177-8EF2-E34CAF4FC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9C9A-35DC-49F4-BA4E-7D6E6CB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83E-FBE8-44A4-B823-5D407683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D27-BA31-4335-B706-48F59A7F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C33-1BDE-4D81-834F-79986D1D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CF5-170B-47DF-9B97-7D49974C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FE2-5C52-42A4-899E-FF20B496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87B-3969-4819-93A1-A1216580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5D4-4677-4F24-BE27-1796FF14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DB77F-AEB6-44F2-AE36-E1278475D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Thinking ski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oing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3360" y="6405480"/>
            <a:ext cx="207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ra Bryce 10/06/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ri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e really didn’t expect this. We thought it’d be the typical economy type hotel. You know, nothing special, just a bed, a wardrobe and a shower in the room if you’re lucky. Well, the en suite bathroom was a big surprise, I can tell you. It’s twice the size of ours at home And as for the view from the balcony, it’s unbelievable. We really can’t compl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at are you thin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2174760"/>
            <a:ext cx="40402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text mod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o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hetical reasoning, apply prior knowledge, (predicting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 relationships (context, language, func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el, man, ro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is positive emotion, B and C are neg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makes people feel these emotions in this context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o they express them in Englis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While you’re list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2174760"/>
            <a:ext cx="30351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erring, project relationships, apply knowled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ing, elimina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362400" y="2174760"/>
            <a:ext cx="5324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idn’t expect.. thought it’d be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real situation was different to how he thought it would 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hing special’ – ‘a big surprise’ ‘unbelieva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= could be positive or negativ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ne of voice sounds animated – probab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appoin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can’t compl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– can’t be angry, must be imp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ansforma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ple choice clo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CE Use of Engli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Creating a text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at’s being exp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out what’s being tes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monitoring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 the model: does the new sentence preserve the original mean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7432560" y="649908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eformul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– pass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the police stopped him..’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he was stopped by police.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, past, future – tens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I haven’t seen her’ 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I last saw her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rect speech – indirect spe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I can’t remember..’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he said couldn’t remember.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itive – neg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I always stay..’  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.I never go...’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I forgot..’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I couldn’t remember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rasal ver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..he’s making a recovery..’  </a:t>
            </a:r>
            <a:r>
              <a:rPr b="0" lang="en-US" sz="2000" spc="-1" strike="noStrike">
                <a:solidFill>
                  <a:srgbClr val="3366ff"/>
                </a:solidFill>
                <a:latin typeface="Calibri"/>
              </a:rPr>
              <a:t>‘..he’s getting over it..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fusing pai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o or enough? so or such? –ed or –ing? gerund or infinitive? make or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– question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dapted from C. Nuttall (199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Literal 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nswer is directly expressed in th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vid and I went on holiday to Spain for two weeks last summ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Q: Where did they go on holid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7476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Reorganizing or reinterpreting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49080"/>
            <a:ext cx="822960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interpret information or pull it out from different parts of the text and put it together in a new w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e spent a few days with my cousin Juan and his family. His sons both speak English really well, but his daughter is very shy and didn’t talk to us muc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Q: How many children does Juan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ferencin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what’s implied but not explicitly stated in the te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e got lost in Madrid one day and had to ask for directions, but it took me a long time to approach someone as I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only been learning Spanish for a few weeks, and David kept complaining that we were going to be late for our dinner reserv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Q: How did the speaker fee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) embarras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) anxio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) ti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makes a task difficul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346560" y="3600360"/>
            <a:ext cx="2512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Evaluat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what the writer’s trying to do and make judgements about how well he’s achieved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strong is the writer’s argument in favour of 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es the writer present a balanced view of 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far do your own experiences agree with 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ersonal respon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your reactions and feelings about th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ow would you have felt if you were character X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Would you like to live in 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o you sympathize with the writer’s argu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How does the writer say what he me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86660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Calibri"/>
              </a:rPr>
              <a:t>Show how the writer tries to convince us that the economic situation is actually beneficial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CE reading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ple mat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-5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5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46936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Which of the people A-E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doesn’t mind what his children talk abou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ductive reason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e’s a fath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e has more than one chil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err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Calibri"/>
              </a:rPr>
              <a:t>Doesn’t min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– positive sense: he’s relaxed about it, it’s not importa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are / categorise / ran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Calibri"/>
              </a:rPr>
              <a:t>Doesn’t min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– I’m not bothered, it’s OK, it doesn’t matt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LIKE---------DON’T MIND---------DON’T LIK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 at all the 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stematic search, focusing atten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, elimi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text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4720" y="2174760"/>
            <a:ext cx="404172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n the texts, find parts which mention children + parents + tal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, where, who, w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Family feuds – or just lunch?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C - Andr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2174400"/>
            <a:ext cx="41878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Andrew finds meals difficult, but necessary. ‘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We’re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always having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rows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, particularly when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the kids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start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moaning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about what’s on their plate.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 – Ge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Mealtimes were very formal occasions, and they provided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my parents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with the opportunity to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interrogate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 me about everything I’d done that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 - A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Whilst the quality of the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kitchen table chat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is not particularly high – a mixture of bad jokes, song lyrics and gossip –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 we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are at least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communicating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, which is the main thing, so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it doesn’t matter to me 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what the </a:t>
            </a:r>
            <a:r>
              <a:rPr b="1" lang="en-US" sz="2400" spc="-1" strike="noStrike">
                <a:solidFill>
                  <a:srgbClr val="3366ff"/>
                </a:solidFill>
                <a:latin typeface="Calibri"/>
              </a:rPr>
              <a:t>topic of conversation is</a:t>
            </a:r>
            <a:r>
              <a:rPr b="0" lang="en-US" sz="2400" spc="-1" strike="noStrike">
                <a:solidFill>
                  <a:srgbClr val="3366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B - Ger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, elimina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e, infer, comp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lking about wh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s a child vs. his own children – ‘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were.. my par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he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n’t fit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Interrog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negative meaning, probably stressful  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ha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n’t fit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C - Andr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e, infer, elimin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e… the kids.. plate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o, wher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its the question = he’s a father, present time, m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having rows… moaning’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negative meanings, stressful / angry =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esn’t fit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A - A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gnitive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e, in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ductive reaso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s-E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44720" y="2174400"/>
            <a:ext cx="404172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We…  kitchen table chat…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o, where, whe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t ques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‘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..communicating…’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positive meaning,  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‘.. It doesn’t matter to me what the topic is..’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it’s not 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probably doesn’t mind what they talk about =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its the ques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Level of difficul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npu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- written, spoken, graphic, numeri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nsity and organization of inform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umber of sourc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sk focus – language system, meaning, bo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vel of abstrac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gnitive func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miliarity of langu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miliarity of tas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me press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utpu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– written, spoken, graphic, numeri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248440" y="3409920"/>
            <a:ext cx="17301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Process compe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bility to us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owledge of social behaviours, concepts, language struc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ffects – values, attitu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bility to express, interpret and deduce mean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kills – reading, writing, listening, spea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Breen and Candlin 198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610320" y="5076720"/>
            <a:ext cx="207648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So the teacher ca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‘thinking aloud’ – talk through examples with the class, model strate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prompt questions vs. give the answer – guide students through tasks, help them notice own strengths/weaknes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ctivities that practice particular cognitive functions eg. comparing, categorizing, infer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write their own questions for texts – notice task rationale, question structure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tudents aware of what’s being tes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: grammar, vocabulary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: compare, match, deduce, infer, reinterpret information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Task knowle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ntal ‘data base’ of different types of tas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’s the goal of the tas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I have to 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what cont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972040" y="3633840"/>
            <a:ext cx="23274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nking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Cognitive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Cognitive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n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ow am I going to do thi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ind similarities and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liminat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is is wrong/im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err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o maybe it means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zing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 – what exactly is it composed of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tegoriz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ese are all type X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nk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from X to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ch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X goes with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bel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his is X and this is 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ly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use the rule, facts you already kn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ypothetical reasoning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hat if…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ductive reasoning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o it must be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ing relationships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ords + context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develop a strate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3757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 your ti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ow am I going to do th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ate a text mode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, when, where, wh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are op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 strategy of eli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prior knowled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what do you know about the contex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sociolinguistic / pragmatic knowled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how do people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ress feeling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ry out transaction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 with each o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linguistic knowled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typical vocabulary, grammatical struc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7064280" y="1600200"/>
            <a:ext cx="1376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ultiple cho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</a:rPr>
              <a:t>FCE listening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4f9ff"/>
              </a:gs>
              <a:gs pos="100000">
                <a:srgbClr val="9eea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FCE multiple choice list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hear this man talking about his hotel. How does he feel about his 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 impre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 disappoi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 ang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019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1:08:00Z</dcterms:created>
  <dc:creator>sara bryce</dc:creator>
  <dc:description/>
  <dc:language>en-US</dc:language>
  <cp:lastModifiedBy>sara bryce</cp:lastModifiedBy>
  <dcterms:modified xsi:type="dcterms:W3CDTF">2011-06-10T14:46:50Z</dcterms:modified>
  <cp:revision>47</cp:revision>
  <dc:subject/>
  <dc:title>What makes a text difficult?</dc:title>
</cp:coreProperties>
</file>